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387B-0558-4186-9544-0CF86F77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FBF-C70E-4213-B19D-6770BF36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20E0-0821-4B59-872D-8ED56402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8409-5658-4B72-87C0-E572F4F5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C69-9076-487A-AE0D-DD9FD876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E2E-BC6A-4ADF-B6CA-087A78C1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A2F-BE79-431B-8918-A314C051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A625-A20F-4AF5-B829-90B23531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8B21-F810-41EE-AFE3-58F740E7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214-0B63-44A0-A992-B92D8648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4A9-443A-4E73-B3EC-0855DC7E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94EA-C11A-4345-BD7C-C74A70B4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1F60-6CEC-4DA4-9629-4E7A87F56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ws &amp; Legal Sys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Unknown Category"/>
          <p:cNvPicPr/>
          <p:nvPr/>
        </p:nvPicPr>
        <p:blipFill>
          <a:blip r:embed="rId1"/>
          <a:stretch/>
        </p:blipFill>
        <p:spPr>
          <a:xfrm>
            <a:off x="457200" y="3809880"/>
            <a:ext cx="377676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Sources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ut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Laws enacted by government bodies (elected) at state and federal level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inance – local leve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La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reated by Judicial branch. Usually created after a trial ends and one side appeals to a higher co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e decisis”- Latin – “let the decision stan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trine requires that lower courts must follow case law in deciding similar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Sources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ministrative La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ecutive Bran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Agencies: governmental bodies formed to carry out particular la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ecurity Adm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 Vehicle Depart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y Zoning Commiss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 Main Types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66520" y="22096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ivil La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minal La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cedural La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stantive La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iness La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1 - Civil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dividu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eek legal remedy for wrongs done to them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Wrongs – Civil Offen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ant fails to pay land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injury by someo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2 – Criminal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me – offense against society rather than an individual person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ng in the name of the people, the government investigates an alleged wrongdoing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icted of Crime – fine, imprisonment,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Shoplifting, kidnapping, etc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3 – Procedural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s forth how rights and responsibilities can be legally exercised  and enforced through the legal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thods &amp; Proces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4 – Substantive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s rights and du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of condu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s offenses, such as murder, theft, breach of contract and neglig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ights &amp; Du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5 – Busines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s rules that apply to business situations and transac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related torts and cr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s &amp; Conspi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form Commercial Code (UC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widely adopted uniform business law which governs areas such as sale &amp; leases of goods and certain aspects of ba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-3 Ethical Bases for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et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/Contrast consequences-bas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ics and rule-based et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how ethics are reflected in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ical Bases for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ics – a practic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ci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at is right or wrong i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ason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mpart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ed – not e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rtial – applies to everyo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thical decision is one that is reasoned out typically by referring to an established authority (law) that provides consistenc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-1 Laws &amp; Legal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the stages in the growth of la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differences betwe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and positive la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origin of the U.S. legal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quence vs. Rule Ba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-based ethical reas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s for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casts the consequences for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s consequences for the greatest goo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-based ethical reas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al ethical rules which judge right or wrong. Recognized authority or human reason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eaking the La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fflaws – individuals who do not obey even minor laws.  Do not apply to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 personal integrity or capacity to do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vil Disobedience – open, peaceful, violation of the law to protest its alleged injust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s to make legal system more j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violent, public, willing to accept punishmen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nstitutional Righ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8" descr="Unknown Category"/>
          <p:cNvPicPr/>
          <p:nvPr/>
        </p:nvPicPr>
        <p:blipFill>
          <a:blip r:embed="rId1"/>
          <a:stretch/>
        </p:blipFill>
        <p:spPr>
          <a:xfrm>
            <a:off x="457200" y="3429000"/>
            <a:ext cx="43117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1  Foundation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U.S. Constit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documents written in the course of the nation’s found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how the U.S. Constitution addresses and protects citizens’ civil righ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cuments That Formed a 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claration of Independence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0520" indent="-326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ed by representatives of the 13 original colonies that asserts the rights desired by the colonist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0520" indent="-326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y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776 in Philadelphia - Formally adopt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0520" indent="-326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ed by Thomas Jefferson in less than a month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0520" indent="-326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men are created equal, that they are endowed by their Creator with certain unalienable rights, that among these are life, liberty, and the pursuit of happiness.”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Appendix B - Page 630 - Full Tex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cuments That Formed a 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ticles of Confederation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781 the 13 independent governments (colonies)  united in an agreement for a common government. (prior to the creation of the Constitution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a stronger central government than Articl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greements regarding Articles ultimately led to the calling for a special convention of the 13 delegat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cuments That Formed a 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.S. Constitution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that consists of 7 articles that provid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kable framework for our federal govern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fication took a while, critics felt wording failed to provide adequate protection of the Human Rights proclaimed in Declaration.</a:t>
            </a:r>
            <a:br>
              <a:rPr sz="28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4, 1789 - Official start da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tion resolved by the adoption of Bill of Righ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cuments That Formed a 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70520" indent="-47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.S. Constitution – Order of Ratifica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elaware - December 7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178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ennsylvania - December 1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178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ew Jersey - December 18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178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Georgia - January 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178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necticut - January 9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178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assachusetts - February 6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178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aryland - April 28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178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outh Carolina - May 2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178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ew Hampshire - June 21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 1788                      </a:t>
            </a:r>
            <a:r>
              <a:rPr b="1" lang="en-US" sz="2100" spc="-1" strike="noStrike">
                <a:solidFill>
                  <a:srgbClr val="008000"/>
                </a:solidFill>
                <a:latin typeface="Times New Roman"/>
              </a:rPr>
              <a:t>(Only 9 of 13 needed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Virginia - June 26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 1788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ew York - July 26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 1788         </a:t>
            </a:r>
            <a:r>
              <a:rPr b="1" lang="en-US" sz="2100" spc="-1" strike="noStrike" u="sng">
                <a:solidFill>
                  <a:srgbClr val="008000"/>
                </a:solidFill>
                <a:uFillTx/>
                <a:latin typeface="Times New Roman"/>
              </a:rPr>
              <a:t>March 4, 1789 - Official start dat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orth Carolina - November 21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100" spc="-1" strike="noStrike">
                <a:solidFill>
                  <a:srgbClr val="008000"/>
                </a:solidFill>
                <a:latin typeface="Times New Roman"/>
              </a:rPr>
              <a:t>178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397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hode Island - May 29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100" spc="-1" strike="noStrike">
                <a:solidFill>
                  <a:srgbClr val="008000"/>
                </a:solidFill>
                <a:latin typeface="Times New Roman"/>
              </a:rPr>
              <a:t>1790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2100" spc="-1" strike="noStrike">
                <a:solidFill>
                  <a:srgbClr val="008000"/>
                </a:solidFill>
                <a:latin typeface="Times New Roman"/>
              </a:rPr>
              <a:t>(Critics of wording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cuments That Formed a 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64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ill of Right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56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10 Amendments of the U.S. Constitut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56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pted to ensure U.S. Citizens would enjoy the human rights proclaimed in the Declarat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56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English documents that contributed t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Bill of Righ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6120" indent="-496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gna C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6120" indent="-496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ition of Right of 16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6120" indent="-496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ill of Rights (Engli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cuments That Formed a 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39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ill of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-73944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dom of Speech, Freedom of Pres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dom of Religion, Freedom to Assemble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-73944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to Keep and Bear Arm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-739440">
              <a:spcBef>
                <a:spcPts val="2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rtering Soldiers – need owners consent</a:t>
            </a:r>
            <a:br>
              <a:rPr sz="32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-73944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and Seizures – protection against unreasonable search and seizur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La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enforceable rules of conduct in a society that reflect the culture and circumstances that creat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books,cases,gavels,government,judicial systems,laws"/>
          <p:cNvPicPr/>
          <p:nvPr/>
        </p:nvPicPr>
        <p:blipFill>
          <a:blip r:embed="rId1"/>
          <a:stretch/>
        </p:blipFill>
        <p:spPr>
          <a:xfrm>
            <a:off x="6324480" y="4114800"/>
            <a:ext cx="25624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601200" indent="-60120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al and Punishment – due process, double jeopardy, self-incrimi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12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601200" indent="-60120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to a Speedy Trial and Counci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1200" indent="-60120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al by Jury in Civil Ca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1200" indent="-60120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uel and Unusual Punishment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prohibits excessive bail and fi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1200" indent="-60120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ion of Constitution – protection of rights not specifically detailed in B.O.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1200" indent="-60120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s of the States and Peo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vil Righ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Personal, natural rights of the individual guaranteed by constit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vital of these rights are covered by the First Amendmen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rs recognized deep-seeded religious impulse but wisely imposed a role of neutrality for the gover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Church and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e Process of Law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81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minimum , a defendant over whom a jurisdiction has been established must be provided adequate notice and a proper hearin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81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fundamental fairness in compliance with reasonable and just law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81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s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mend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olition of Slaver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 indent="-271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ly allowed by Constitut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 indent="-271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humanized by Article I which counted them as only 3/5 of a person when assigning representativ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 indent="-271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icle IV – stated if they escaped they must be returned to the appropriate part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 indent="-271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-Civil War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mend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 indent="-271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ither slavery nor involuntary servitude, except as a punishment for a crime whereof the party shall have been duly convicted, shall exist within the U.S., or any place subject to their jurisdiction.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ight to Vot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960" indent="-264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mend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The right of citizens of the U.S. to vote shall not be denied by the U.S. on the account of race, color or previous condition of servitud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960" indent="-264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s created “poll taxes” to try to prevent voting. Many former slaves could not afford the tax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960" indent="-264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mend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shall not be denied… by reason of failure to pay any poll tax or other taxes”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960" indent="-264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mend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“shall not be denied… by gend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960" indent="-264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mend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Voting age lower to 18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981080"/>
            <a:ext cx="734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pheral (Secondary) Righ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ights that are not explicitly mentioned in the U.S. Constitution or Bill of Rights but courts recognize them as necessary to protect the rights that are mentioned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7880" indent="-281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of Priv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7880" indent="-281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of parents to control the heal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welfare of their childr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2  Division and Balance of Government P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system of checks and balances in the U.S. Gover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how the power to govern is divided between the federal and state gover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System of Checks and Balanc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719360"/>
            <a:ext cx="8610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of Checks and Bal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upon a balance of power between the 3 governmental branches by having the powers given to one branch check the powers given to ano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ches of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is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islative – Congress (make the law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240" indent="-340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ate – with two members from every state (regardless of popu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240" indent="-340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e of Representative - seats allocated to the states in proportion on their population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ive – Presid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icial – Supreme Cou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System of Checks and Balanc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ing the Constit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ndment – change or al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by 2/3 majority votes in both Senate and House of Representat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omes valid part of constitution only if it is ratified by the legislatures of ¾ of the sta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s of Growth in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s are free to take revenge for wrongs done to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eader acquires enough power to be able to force revenge-minded individuals to accept an award of goods or $ inst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ers give this power to court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ers act to prevent and punish wrongs that provoke individuals to seek reve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U.S. Form of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cracy – governmental system in which citizens vote directly to decide issu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ublic - governmental system in which citizens elect representatives to decide issu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presentative Democra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to Gov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vereignty –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mendment) supreme political authority free from external contro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tate Commerce – affects trade between stat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ederal regul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astate Commerce – trade within its own border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 reg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Internet &amp; Constitutional R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tion 2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the issues of jurisdiction that arise with Internet usag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various constitutional issues involved in the use of electronic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ber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that is intended to govern the use of computers in e-commerce and the Intern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risdiction,   Trademarks,   Copyright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s,   Privacy,   Obscenit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mation,   Security of Data,   Cr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rth of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0’s – Advanced Research Project A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d together computers on various academic campuses and research centers around the country in a network call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PAN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0’s – National Science Foundation (NS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advanced network –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ed Internet for business purpo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under contract - not to use for busi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k over functions of defense network and created the modern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orld Wide Web (WWW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0 – After 20 years of scientific and academic use, the Internet was opened up to new users through creation of hypertex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pertex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nonlinear format for the publishing of information used to send emails, transfer data, and converse in chat roo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orld Wide Web (WWW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rners-L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veloped WWW Program to simplify the Internet to allow almost universal access to anyone with the use of a computer.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vision was to open access to as wide a body of information to users through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row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ternet scanning program that utilize the attributes of hypertext to allow immediate access to any and all subjects and the background information necessary to comprehend th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orld Wide Web (WWW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rners-Le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hypertext markup language (HTML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hypertext transfer protocol (HTTP)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TML:  dictates the format of standard Web documents.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TTP:  provides the standard for exchanging files in HTML form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 of Juris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in state where suit filed?    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where e-business is physically loca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ing Info?     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ng busin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e 36 – 38 What’s Your Verdict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volving Legal Issues in Cyberspa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oing issue of Juris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of jurisdiction is whether a case is decided in the state in which it is fil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legal consid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-Arm Statutes: laws in the states which will allow suits against non-resident defend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Violations of due process requirements of U.S. Constitution in state or federal court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vs. Positive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on La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based on the current standard or customs of the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formed from rules judges use to settle disp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itive La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based on the dictates of a central political authority (higher authorit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down by a sovereign to prevent disputes and wrongs from occurring in the first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volving Legal Issues in Cyberspa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tional Juris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 E-Commerce Princi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untry may exercise jurisdiction only over activities with a substantial effect on or in that countr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uncertainty involved in the jurisdiction issue can be removed if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business puts a notice on its website and clarifies sections of their contra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ate that any and all legal issues shall be resolved in a particular jurisdi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ternet Related Constitutional Issu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dom of Spe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not scream “fire” in crowded building, publish malicious lies in news print, can not publish obscene materials onlin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ger King Corporation v. Rudzew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 determined that a defendant company of one state has created a “substantial connection” through “minimum contacts” purposely directed toward a foreign state become subject to the laws of that other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ternet Related Constitutional Issu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h v. United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 stripped away the protections of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mendments from obscene mate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er v. Califor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part test to determine whether or not material can be considered obscene and regulated or banned by local, state or federal gover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ternet Related Constitutional Issu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 Decency Act (C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urpose of CDA was to control the knowing transmittal of obscene material through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 violators: Fines and imprisonment for up to 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d immediate legal attacks - declared unconstitu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Online Protection Act (COP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commercial sites to use up-to-date methodology to restrict access to their sites containing material harmful to child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ion: face fines of $50,000 per incident and website operators face jail terms up to 6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ternet Related Constitutional Issu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to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emails sent on company’s email system not protected by the right of privac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 of Privacy remain unsolv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mming – the practice of sending un-requested bulk emailings to hundreds of thousands of potential customers via the Intern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okie is a packet of information containing the Internet address and other personal information about a website visitor such as buying patte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aw exists in the U.S. that covers the gathering of user information while they are on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tutes of Importance to Cyberla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nham Act of 19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for the registration &amp; protection of trademarks &amp; copyrigh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demark Dilution Act of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empts to protect the holders of famous trademarks from the effects of domain-page registrations that tend to confuse and dilute the trademarks goodwi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uter Fraud and Abuse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ften-amended act that pioneered the treatment of computer-related crimes as unique offenses in the United States C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lecommunications Act of 199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.k.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ild Online Protection Act of 199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OPA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audulent Online Identity Sanctions Act of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potential prison sentences by up to 7 years for someone who provided “material and misleading false contact information to a domain name registrar, domain name registry, or other domain name registration auth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8" descr="Unknown Category"/>
          <p:cNvPicPr/>
          <p:nvPr/>
        </p:nvPicPr>
        <p:blipFill>
          <a:blip r:embed="rId1"/>
          <a:stretch/>
        </p:blipFill>
        <p:spPr>
          <a:xfrm>
            <a:off x="304920" y="3809880"/>
            <a:ext cx="3882960" cy="27622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urt System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s of Disput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tion 3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 how disputes can be settled without going to cou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e different levels of courts and describe their jurisdictions and pow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st cost-effective way to resolve disputes: </a:t>
            </a:r>
            <a:br>
              <a:rPr sz="4400"/>
            </a:b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egotiation between partie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iga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to allow the court to resolve their dispu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4582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diator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ies to develop a solution acceptable to both sides of dispu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party negotiator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s are advisory </a:t>
            </a:r>
            <a:br>
              <a:rPr sz="44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(not legally binding to the parties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glish Common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round 1150, King Henry II appointed some of his trusted nobles to act a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JUDG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e recognized importance of keeping to the customs of the people.  Instruct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JUDG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choose citizens to help interpret situations -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JU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King’s Court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ways had jurisdiction on cas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the power to decide a ca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government,kings,males,men,monarchs,people,persons,royal highnesses,royalties,rulers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bitrator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sually holds an informal hearing to determine what happen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ally binding to both part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sion can be enforced by the court if necessa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rt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 governmental forum that administers justice under the la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rds damag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ses punishmen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458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ial Cour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first court to hear a disput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 its original jurisdiction over a case to determine facts and then applies law to them to determine an outcome/decis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7631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di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jury's decision in a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wy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officers of the cou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citizens sworn in by court to decide issues of fact in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inal Jurisdic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ower to hear case in full for the first tim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ellate Cour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reviews decisions of lower courts to determine if a significant error of law was made during tr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s and may correct the choice or application of law made by the trial cou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5345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ellate Cour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re not present at Trail cour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not make determina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cerned solely with errors made in the la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ellate Courts Review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nscript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verbatim record of what went on at t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ellate Briefs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 argument on the issues of law submitted by opposing attorn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ellate Courts C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ffirm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Uph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vers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Over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m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m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send back to trial court for corrective actions or possibly a new tr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eckpoin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are the two levels of courts, and what is the function of each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ederal Court Syst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tion 3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the source of power of the federal gover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e major federal court and describe their jurisdictions and pow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-2 Types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four sources of la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conflicts of la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/Contrast criminal, civil, substantive, procedural and business la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of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ticle III - Section 1 -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.S. Constitu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judicial Power of the U.S. shall be vested in one Supreme Court, and in such inferior Courts as the Congress may from time to time ordain and establis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deral Cour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are 3 levels of federal courts with General Jurisdi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neral jurisdiction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rt that can hear almost any kind of c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pecial jurisdiction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rt that hears only one specific type of c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6868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0">
              <a:spcBef>
                <a:spcPts val="11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ederal District Cour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 serves as a trial cou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urts of Appe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Appellate jurisdiction over the Federal District Court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.S. Supreme Cou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 Original &amp; Appel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risdiction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 Highest Feder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ppellate Cou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the Supreme Court believes a case contains a sufficient constitutional issue, they issu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rit of certiorari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rder that compels a lower court to produce the record of a case for the Supreme Court to review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ource of power of the Federal cour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three levels of federal courts and descri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jurisdiction of eac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e Cou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tion 3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re the structure of a typical state court system with the structure of the federal court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 the jurisdictions of the specialized courts in a typical state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tate Cour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mbles Federal Cou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l Cou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llate Cou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Supreme Cou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ow Chart on Page 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rcuit Cour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Trial court with general original jurisdiction of both civil and criminal matt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so Known A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perior Cou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ct Cou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rts of Common Plea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rt of Record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urate, detailed report of what went on at the trial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uracy vital if case appea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cripts,   Evidence, Statements,   Determinations, &amp; Judgm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Sources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it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document sets forth the framework of a government and its relationship to the people it gover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S. Constitution &amp; State Constitu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st sources of la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The supreme law of the land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ized Jurisdiction Cou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) Associate Circuit Court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t that hears minor criminal cases, state traffic offenses, and lawsuits involving amounts of no more than $25,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.k.a. County Cou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nicipal Court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ty court, usually divided into traffic and criminal di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) Small Claims Courts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courts that handle disputes in which small amounts, generally $2,500 or less, are involv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) Juvenile Courts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ts where the juvenile is entitled to his or her constitutional rights, including the right to be represented by an atto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uveniles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dividuals over 13 and under 18 years of age who have special status under criminal la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) Probate Court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ers wills and esta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533520" y="2438280"/>
            <a:ext cx="2133360" cy="1295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3200400" y="2438280"/>
            <a:ext cx="2133720" cy="1295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veni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5867280" y="2438280"/>
            <a:ext cx="2133720" cy="1295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nicip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990720" y="4038480"/>
            <a:ext cx="2133360" cy="1295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3657600" y="4038480"/>
            <a:ext cx="2133720" cy="1295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mi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6324480" y="4038480"/>
            <a:ext cx="2133720" cy="1295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i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533520" y="5715000"/>
            <a:ext cx="7543800" cy="8380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ociate’s Court  / County Cou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a typical state court system have in common with the federal court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ame the typical state courts that have specialized jurisdiction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Sources of Law</a:t>
            </a:r>
            <a:br>
              <a:rPr sz="4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stitution Continued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cation of power between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&amp; gover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of Rights – protect people from action of their gov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l &amp; state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tate Commerc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deral – between 2+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astate Commerc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 – within one st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nches of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s &amp; Balances of Executive, Legislative, &amp; Judi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undlin</cp:lastModifiedBy>
  <dcterms:modified xsi:type="dcterms:W3CDTF">2013-09-09T18:52:50Z</dcterms:modified>
  <cp:revision>33</cp:revision>
  <dc:subject/>
  <dc:title>PowerPoint Presentation</dc:title>
</cp:coreProperties>
</file>